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6EB-080F-4971-A7E3-0843AE57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A3B-3084-4395-97F9-B4A4397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70BDF-B950-4AFC-A615-1EF78B15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091AC-89E5-4344-8445-F3533DA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9168C-F55E-4F1D-8931-99DD925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7F9D2-44F9-4CB4-8714-32D68ED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FF3F8-4282-4C1B-907F-1F8FD4C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52F2-12B3-4A95-87A3-97905A4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1E07-F57B-4180-BA50-59BEC3E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7DDA-834E-4C90-A964-6D8A94BE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16407-91B4-4B99-8B88-18F3988F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61755-C5B3-4361-A0F9-52009A7E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550-0D09-4A8B-A70C-F541164D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DE143-D462-453D-9799-79E62B3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207D7-830C-47B5-B5CC-BEC23EF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6DA6E-56C7-4320-B106-A4ACD7B4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AC88-B438-4DC8-8638-53BF293C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E1207-D93E-429B-81CB-E87F396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98EA9-DED7-47D0-9273-835E50D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7374-96CB-465D-8275-39F0689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45D2-E3AB-483D-942F-1480F2CE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FDB5E-F0B8-4EA2-87E3-82BAEA4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7341-9CA6-44DE-A2CE-2C6302A3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AA4-9437-4A35-94E1-B6901580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8CE2-B8B4-48B7-A815-2805079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EE9B0-BF00-4A2B-B686-AC8827A5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7260-A146-4119-8E7D-C8D0AE4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28330-5F5F-47AE-B15E-4536CA2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5F712-50E4-42C4-8174-BFD64C44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CFC2A-3BEE-4EC2-A9E2-9BA005BB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C36B1-1AD4-430F-9130-0FF5F08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02B87-F8B8-4D97-B822-F3AFA63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265E-1507-49F6-809F-C058759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35294-F296-4022-874D-9B58D527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343-EA1C-4508-B378-88FA8C90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19361-37B1-44C8-8C3F-D653329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C1E3-A637-4528-8BBF-608F53DE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C952E-98C1-41BC-BB1A-C6208625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0DBBC-7039-4BB5-AFA0-1FEF3042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3223F-31BD-423A-A4E0-66FBA62D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AA94C-8A38-4506-B5DE-F68CDB5D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8F73-C4BF-4D55-92A7-CC0DD6F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A5B6C-B415-4E3D-A39F-A3112B52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9A17D-4F61-4E5B-966B-DBF2244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84FB-3161-48B9-9567-3E4ED0E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710-2396-4E1F-83E7-78B1DDF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AC1EB-C7CB-40FA-A71D-2E92E16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95E69-A46E-4297-B98F-857A7DA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DCA80-1208-4EE1-A51E-9AE49BD7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98135-1E55-4F8A-A5BF-68DBB774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F9290-A8A3-4A21-8962-410C2ABC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7622-95D7-4588-9308-8B753CCA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A39A-7010-4A79-8B96-43F00B2B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C0C6-1F2E-4B15-A27D-A89E196E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0B02-AFB5-4A02-9464-4EF9111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BE6-8819-4EAA-8EBA-A67C401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2D2-130C-4E68-8ADA-E21948C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46E-FEE3-4F37-8711-CFB10AD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C49-1AA8-4591-9C6C-6DEF4FE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C7A-435B-4CB7-850B-6AFC16B4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F6F9-5377-44F1-A395-01D58984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662C-D5DF-4F96-B25E-C8A35FD7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2056-F51E-4C83-A785-F7C5AEF5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3180-4915-4A98-BBB9-91AC52D8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25E7-55B2-4663-A2E0-E5348DD0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581E-DB3D-48FD-9732-FBC94AC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16D5-70BB-4430-A87C-B321D026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9E1-AFC6-406D-AFAC-9597F1EC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1892-0B33-4F70-8652-3FBFEDC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1E6A-739D-46FB-A452-7C8EBDB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C876-E7CD-45A9-8E39-9506BE6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8CA8-DB54-462E-AB1D-CBCA228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B144-4FE0-47C8-B5BF-3D29A57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3C4D-E2EE-436C-92E6-65A36581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7056-BEBC-43CE-ACF8-E5A9691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88EE-2FBF-4D86-8981-0DF7DE38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C171-A10A-4A5F-886D-00A3A6A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17CC-5C16-4961-9B72-1247F163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B15-8D71-4320-A957-D1EB2B4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772A-75FD-421C-85FE-4FCEAF2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9612-1423-4B8E-8D96-D1B8C7B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0FE5-FB64-4935-A5D3-D1E3AD3A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9548-D802-4601-A702-6641D28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3C59-34A2-42E7-A815-6C53BE9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3436-D3C2-4AC2-AC06-3185B3F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1EB1-9CC6-4EBC-B3D0-978E734F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FDE7-26EC-4778-9137-10F206FE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C3ACC-F287-4D0C-96E8-43E97A15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9904F-1B18-4202-9BE7-413BE8FC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101-1175-4C08-8B9A-5DFC43D1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2FBB-55E4-4B44-984D-A52F1DE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436E-C886-4769-9B41-6BCB684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B674-9728-4BCB-87F4-C9EE8537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20264-A941-433A-897A-9F53496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0311-6EFE-4056-B03D-E171B17E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2D51-E42F-4B24-A788-97EC035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D9FB-B368-4B3F-AB17-A5BF0D7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07BE-D54A-4A84-8F13-F128CD2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6A8A-E680-4DF5-9BE8-AC89AF7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D8C6-85A0-4FD8-98E9-D771A06A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4E-DD25-4FBE-BB95-210053A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A055-1A63-426F-B19B-944C5EF2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6C85-0B9F-45C2-96C4-8CB05D33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CFAF8-E855-4787-9F11-36AF0370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F95CC-9791-4BDD-B102-BFA7D10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A970-093E-4564-9D78-A059740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C030-A032-4782-8435-1C257AD6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A24B-FF4A-45BF-8A13-896C580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E947-DCDF-49E2-8D36-16CD49C5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0143-7AA4-4ABB-8F72-0A54546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D538-6FF1-445E-8010-201C64C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498-88EC-4461-A020-E0277B4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CDBC-E4E0-427B-8BF2-68A459DE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C22C-9790-4858-A15E-5E7CCD45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353E-C7C6-420E-811D-447BEC2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4F2B-3B57-423E-9A52-6219B0CC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89941-E271-4A58-A153-9634566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3ACE8-B6C1-4719-949E-C140A49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DBF7-B293-470D-93EA-3AD1F8F7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41D0-D217-4228-886A-7DC834F9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77431-878C-44AE-B4C7-E084351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76D9-EA65-4BEB-8431-FBD47CA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CCB-E602-4D00-B3B3-A0F50379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94031-2E27-4230-9799-B63BF74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F6DE-B467-4239-A8BF-C47EDFB8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69B1-20FE-4438-AAC2-ECE0D69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0C31-E611-49A9-B54D-BB004288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FBCD-A07C-45A3-A90F-5B78D6D3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920AC-A987-4309-A249-5E4AC0BC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EE5BB-0B2D-4FA1-88B5-BB054E7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26B9-A736-430B-B7BB-18E73475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659C-01DC-453B-8C3C-C5CFEA70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0B02-93E6-4A20-8233-4E6B081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11B-5E4F-44C0-9176-2D6F9D1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5826-E6F0-4F5D-8D6E-A05F7D03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13DA-066F-46DB-8F23-048FC82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8338D-2CB5-4630-B92D-0E8B810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2496-06BA-4B0B-A2FE-CA11666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6430-485E-4817-939E-74F5271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467D-8B4E-48C7-9694-26323B85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324E-F663-4591-B41C-080CE4E1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A490E-48A0-4F25-B3AF-B6D7BB42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A1EF-2B95-4451-87D5-D8106A5A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AC111-FF5D-4AB2-9D6F-371A69C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7B1-3AF8-46D0-B682-7E27B05B41F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3DDA-A061-44D0-A220-DD14A3CDCF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87C-6AF0-41F2-B6C1-B234916FE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CB3E-D0D8-4CEF-ADF7-20561C8E43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E95-7190-47CB-8E3B-A024FB4689C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5C9-1197-4FE9-8987-8109719435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5EBB-A023-4BF3-8C6D-F08689F9F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1FF-EC0C-46B5-B649-662408D63D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84F-2480-4DA2-B317-C9BF603AF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BC5F-FD36-4423-A770-34E25993B1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B74-3C23-4448-949C-226DBE74F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501-ACD8-41AA-9016-39304D0D88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1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2199960" y="1429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夜间飞行的秘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结论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0" y="12193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靠的不是眼睛，它是用嘴和耳朵配合起来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577960" y="4581360"/>
            <a:ext cx="3516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靠的不是眼睛，它是用嘴和耳朵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WordArt 5"/>
          <p:cNvSpPr txBox="1"/>
          <p:nvPr/>
        </p:nvSpPr>
        <p:spPr>
          <a:xfrm>
            <a:off x="3059280" y="6308640"/>
            <a:ext cx="1752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比较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4389840" y="285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：用可靠的事实来表明结论的真实性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277164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2484360" y="34290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3"/>
          <p:cNvSpPr/>
          <p:nvPr/>
        </p:nvSpPr>
        <p:spPr>
          <a:xfrm>
            <a:off x="468360" y="744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9640" y="1465200"/>
          <a:ext cx="8280360" cy="4464000"/>
        </p:xfrm>
        <a:graphic>
          <a:graphicData uri="http://schemas.openxmlformats.org/drawingml/2006/table">
            <a:tbl>
              <a:tblPr/>
              <a:tblGrid>
                <a:gridCol w="612720"/>
                <a:gridCol w="460440"/>
                <a:gridCol w="538200"/>
                <a:gridCol w="458640"/>
                <a:gridCol w="1459080"/>
                <a:gridCol w="4751280"/>
              </a:tblGrid>
              <a:tr h="80316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一次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眼睛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二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三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结论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69"/>
          <p:cNvSpPr/>
          <p:nvPr/>
        </p:nvSpPr>
        <p:spPr>
          <a:xfrm>
            <a:off x="2668680" y="14018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76"/>
          <p:cNvSpPr/>
          <p:nvPr/>
        </p:nvSpPr>
        <p:spPr>
          <a:xfrm>
            <a:off x="3203640" y="3643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77"/>
          <p:cNvSpPr/>
          <p:nvPr/>
        </p:nvSpPr>
        <p:spPr>
          <a:xfrm>
            <a:off x="4500720" y="34815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78"/>
          <p:cNvSpPr/>
          <p:nvPr/>
        </p:nvSpPr>
        <p:spPr>
          <a:xfrm>
            <a:off x="3276720" y="4572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79"/>
          <p:cNvSpPr/>
          <p:nvPr/>
        </p:nvSpPr>
        <p:spPr>
          <a:xfrm>
            <a:off x="4500720" y="4375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80"/>
          <p:cNvSpPr/>
          <p:nvPr/>
        </p:nvSpPr>
        <p:spPr>
          <a:xfrm>
            <a:off x="1619280" y="521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1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理解词语：证明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：用可靠的事实来表明结论的真实性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联系上下文找句子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46200" y="26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Line 17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24000" y="400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把蝙蝠的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结果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12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8" name="Picture 14" descr="CPL_031"/>
          <p:cNvPicPr/>
          <p:nvPr/>
        </p:nvPicPr>
        <p:blipFill>
          <a:blip r:embed="rId4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15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Freeform 18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Freeform 19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Freeform 20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Freeform 23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Freeform 26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Freeform 27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Freeform 28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29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Freeform 30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33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障碍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读课文第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节，动手画画示意图，说说蝙蝠用嘴和耳朵配合起来探路的经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Freeform 36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3886200" y="1676520"/>
            <a:ext cx="4757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它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人的耳朵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蝙蝠的耳朵却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像波浪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样向前推进，遇到障碍物就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传到蝙蝠的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里，蝙蝠就立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七小节，完成下列填空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 )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相当于蝙蝠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611" name="Line 13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4" name="Group 16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615" name="Line 17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18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Line 19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8" name="Group 20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619" name="Line 21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Line 22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2" name="Text Box 24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天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26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无线电波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超声波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荧光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因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所以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说说蝙蝠和雷达之间的科学联系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2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小结：科学家从蝙蝠探路的试验和研究得到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，发明了雷达，这就是蝙蝠与雷达的联系，所以课题要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来连接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914400" y="266688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1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、启示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2843280" y="263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发指示，使有所领悟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684360" y="3429000"/>
            <a:ext cx="77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、查字典比较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：</a:t>
            </a: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8" name="Picture 18" descr="add"/>
          <p:cNvPicPr/>
          <p:nvPr/>
        </p:nvPicPr>
        <p:blipFill>
          <a:blip r:embed="rId4"/>
          <a:stretch/>
        </p:blipFill>
        <p:spPr>
          <a:xfrm>
            <a:off x="8101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0"/>
          <p:cNvSpPr/>
          <p:nvPr/>
        </p:nvSpPr>
        <p:spPr>
          <a:xfrm>
            <a:off x="2357280" y="485784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检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2438280" y="4038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查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6" name="Picture 12" descr="dolphin04_1024x768"/>
          <p:cNvPicPr/>
          <p:nvPr/>
        </p:nvPicPr>
        <p:blipFill>
          <a:blip r:embed="rId4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7" name="Picture 14" descr="007"/>
          <p:cNvPicPr/>
          <p:nvPr/>
        </p:nvPicPr>
        <p:blipFill>
          <a:blip r:embed="rId5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8" name="Picture 16" descr="9711f32966327e946042cebaffa22592_m"/>
          <p:cNvPicPr/>
          <p:nvPr/>
        </p:nvPicPr>
        <p:blipFill>
          <a:blip r:embed="rId6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9" name="Picture 18" descr="04366-10"/>
          <p:cNvPicPr/>
          <p:nvPr/>
        </p:nvPicPr>
        <p:blipFill>
          <a:blip r:embed="rId7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0" name="Picture 20" descr="20060830201009323"/>
          <p:cNvPicPr/>
          <p:nvPr/>
        </p:nvPicPr>
        <p:blipFill>
          <a:blip r:embed="rId8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1" name="Picture 22" descr="11465480347750578"/>
          <p:cNvPicPr/>
          <p:nvPr/>
        </p:nvPicPr>
        <p:blipFill>
          <a:blip r:embed="rId9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作业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68360" y="90792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抄写词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避开  敏锐  模仿  超声波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 荧光屏  横七竖八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照样子把下面的句子补充完整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今天是星期一，学校里怎么一个学生也没有呢？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课外收集资料，说说事物之间有什么联系，又是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怎样联系的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back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    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常识课上，老师为我们做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烧纸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（   ），看得我们目瞪口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试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5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敏锐    敏捷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兔子（       ）地一跳，躲开了老鹰的攻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Text Box 27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Text Box 28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自学要求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读一读：读准字音，读通课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想一想：在漆黑的夜里，飞机怎么能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问一问：读了课文，你有什么问题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2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学习生字：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 铛 蒙 蝇 障 碍 摹 荧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Picture 13" descr="田字格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8" name="Text Box 14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摹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572000" y="2743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根据音节读准字音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碍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003640" y="2924280"/>
            <a:ext cx="3529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é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i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76320" y="380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蝙蝠  避开 敏锐  模仿 捕捉 漆黑  超声波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试验 铃铛 荧光屏 配合 探路 秘密 横七竖八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摹仿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研究 驾驶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8"/>
          <p:cNvSpPr/>
          <p:nvPr/>
        </p:nvSpPr>
        <p:spPr>
          <a:xfrm>
            <a:off x="304920" y="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原来是人们从蝙蝠身上得到了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4693680" y="50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</a:rPr>
              <a:t>启发指示，使有所领悟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755640" y="9061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蝙蝠在夜里飞行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还能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捉飞蛾和蚊子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而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无论怎么飞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从来没见过它跟什么东西相撞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使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根极细的电线，它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能灵巧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避开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难道它的眼睛特别敏锐，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在漆黑的夜里看清楚所有的东西吗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7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一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Text Box 66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67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眼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68"/>
          <p:cNvSpPr/>
          <p:nvPr/>
        </p:nvSpPr>
        <p:spPr>
          <a:xfrm>
            <a:off x="4427640" y="3086280"/>
            <a:ext cx="424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三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11Z</dcterms:created>
  <dc:creator/>
  <dc:description/>
  <dc:language>en-US</dc:language>
  <cp:lastModifiedBy>万润仪器贸易公司</cp:lastModifiedBy>
  <dcterms:modified xsi:type="dcterms:W3CDTF">2020-08-24T03:34:31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